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9FB-3521-4BC4-84EB-D860E216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F209-57D9-490C-997A-B02D4D05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D3C1-E355-40A9-AC84-6D03F844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86C-36DD-4A1A-B62A-E7EB8D52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19A2-D354-48DB-B8F8-5F492C4C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7758-962E-4E7D-994D-4EC5FF27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7BBA-D071-41E5-B760-75183593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7582-63E9-47C8-A81D-17E99294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558B-26A1-4D35-A15D-B213B267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6AD9-6CBA-4580-BB4B-5B428254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7A29-0CAF-4587-AB1B-AFB9F455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15BD-82E3-4007-99A3-B78301F5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6473-2AD8-4745-B171-FE5CA8A6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4E75-AA52-4C1C-B783-FEE6DC70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142A-4121-43DD-AB77-B933A7B5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1C62-E612-438F-B394-545D2183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AB4C-A280-4D0F-9807-088F0857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DEF9-E299-4781-919B-65DA6DB4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4B31-100F-491F-8C51-2860FA3E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E817-761D-4C3C-B012-238C0DDA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826D-5746-4989-A738-4239B83A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33A-9555-4FF8-9062-AA018588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ACA6-BE9F-4557-B637-50BB9CD8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D6CA-AA5F-48DB-ACFD-817117B3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BAF7-6EFD-4C27-916C-C49AF27DB76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9F97-8201-4E51-BCE5-E773B73604C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660066"/>
                </a:solidFill>
                <a:uFillTx/>
                <a:latin typeface="Tahoma"/>
              </a:rPr>
              <a:t>Procedimento per studiare una funzione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85800"/>
            <a:ext cx="9144000" cy="57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Lo studio di una funzione, reale di una variabile reale  y=f(x),  consiste  nel determinare gli element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caratterizzanti la funzione che permettono di disegnarne  il grafico;si può  procedere con il seguente schem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it-IT" sz="1600" spc="-1" strike="noStrike" u="sng">
                <a:solidFill>
                  <a:srgbClr val="40458c"/>
                </a:solidFill>
                <a:uFillTx/>
                <a:latin typeface="Times New Roman"/>
              </a:rPr>
              <a:t>.Determinazione del campo di esistenza (C.E.)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:  i casi che si possono presentare sono i seguenti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40458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Funzioni  razionali  intere: il C.E.è costituito da qualunque valore della  x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40458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Funzioni razionali fratte: il C.E. è costituito da ogni  valori della  x  , esclusi,  se ci sono, quelli che rendono nullo il denominatore della funzione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40458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Funzioni irrazionali:si devono distinguere due casi in relazione all’indice   “n”  della radice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se   “n”   è dispari il C.E. è formato da ogni   x   reale esclusi quelli, eventuali, che annullano denominatori,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se   “n”   è pari il C.E. è costituito soltanto da quegli   x   che rendono positivo o nullo il radicando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40458c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Funzioni goniometriche:  y=sen(x)  e  y=cos(x)  esistono per ogni   x   reale;  mentre  y=tg(x)  esiste per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                     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con   k   intero relativo ,  e  y=ctg(x)  esiste per ogni                      con   k   intero relativo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40458c"/>
              </a:buClr>
              <a:buFont typeface="Times New Roman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Funzioni esponenziali del tipo                               : la condizione che determina il C.E. è che la base sia positiva cioè, f(x)&gt;0.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40458c"/>
              </a:buClr>
              <a:buFont typeface="Times New Roman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Funzioni logaritmiche del tipo                                : le condizioni che individuano il C.E. sono le seguenti   f(x)&gt;0   e   g(x)&gt;0,              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839080" y="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09480" y="4419720"/>
                <a:ext cx="9781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π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019920" y="4572000"/>
                <a:ext cx="63504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kπ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00400" y="4876920"/>
                <a:ext cx="10540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00400" y="5486400"/>
                <a:ext cx="12574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971800" y="5715000"/>
                <a:ext cx="6858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6248520" y="65833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imes New Roman"/>
                <a:hlinkClick r:id="rId1" action="ppaction://hlinksldjump"/>
              </a:rPr>
              <a:t>Avanti: continua il 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04920" y="304920"/>
            <a:ext cx="3124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Calcolo della derivata prim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2666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Studio del segno della derivata prim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4343400"/>
            <a:ext cx="38862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ntervalli di crescenza decrescenz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La funzione è crescente per: 1&lt;x&lt;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54864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assimi e minimi relativ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C’è un massimo relativo in: Mr(4,4/3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80880" y="914400"/>
                <a:ext cx="2222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380880" y="3276720"/>
                <a:ext cx="3581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609480" y="6583320"/>
            <a:ext cx="1219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57400" y="6553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ahoma"/>
              </a:rPr>
              <a:t>Funz.raz.frat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6583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ahoma"/>
              </a:rPr>
              <a:t>Indietr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64771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ahoma"/>
              </a:rPr>
              <a:t>Avant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04920" y="304920"/>
            <a:ext cx="3200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Calcolo derivata second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18288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Studio segno derivata second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3581280"/>
            <a:ext cx="426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oncavità verso l’alto e verso il bass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La funzione ha la concavità verso l’al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per:x&gt;11/2, verso il basso per: x&lt;4 ma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5181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unti di flesso:</a:t>
            </a: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c’è un punto di flesso per x=11/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80880" y="914400"/>
                <a:ext cx="21592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66760" y="2438280"/>
                <a:ext cx="25398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 rot="10800000">
                <a:off x="4495680" y="4419720"/>
                <a:ext cx="5079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609480" y="6583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ahoma"/>
              </a:rPr>
              <a:t>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133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ahoma"/>
              </a:rPr>
              <a:t>Funz.raz.frat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657600" y="6583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ahoma"/>
              </a:rPr>
              <a:t>Indietr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229600" y="6583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ahoma"/>
              </a:rPr>
              <a:t>Avant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40458c"/>
                </a:solidFill>
                <a:uFillTx/>
                <a:latin typeface="Times New Roman"/>
              </a:rPr>
              <a:t>Grafico della funzione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:                                            (fare clic per visualizzare gli elementi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286000" y="304920"/>
                <a:ext cx="939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410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04920" y="65833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imes New Roman"/>
              </a:rPr>
              <a:t>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52480" y="6583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imes New Roman"/>
              </a:rPr>
              <a:t>Funz.raz.frat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26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imes New Roman"/>
              </a:rPr>
              <a:t>Indietr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5181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76720" y="54864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A(0,-4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114800" y="3886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5029200" y="3886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4876200" y="4037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38680" y="43434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C(+2,0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24080" y="43434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B(-2,0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800600" y="1294920"/>
            <a:ext cx="0" cy="4953240"/>
          </a:xfrm>
          <a:prstGeom prst="line">
            <a:avLst/>
          </a:prstGeom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581280"/>
            <a:ext cx="8077320" cy="0"/>
          </a:xfrm>
          <a:prstGeom prst="line">
            <a:avLst/>
          </a:prstGeom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31240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Y=+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81480" y="1295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X=+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562720" y="3429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5334120" y="2743200"/>
                <a:ext cx="799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 flipV="1">
            <a:off x="594360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3581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Fless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391520" y="61722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077320" y="6477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Fin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763120" y="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80880"/>
            <a:ext cx="9144000" cy="60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g) Funzioni goniometriche inverse: y=arcsen(x)   e   y=arccos(x)   sono definite per                           ,mentr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y=arctg(x)   e   y=arcctg(x)   esistono per ogni   x   reale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h) Funzioni iperboliche: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sono definite per ogni   x 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buClr>
                <a:srgbClr val="40458c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Funzioni in valore assoluto: il valore assoluto non induce alcuna limitazione al C.E. della funzione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buClr>
                <a:srgbClr val="40458c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2. </a:t>
            </a:r>
            <a:r>
              <a:rPr b="0" lang="it-IT" sz="1600" spc="-1" strike="noStrike" u="sng">
                <a:solidFill>
                  <a:srgbClr val="40458c"/>
                </a:solidFill>
                <a:uFillTx/>
                <a:latin typeface="Times New Roman"/>
              </a:rPr>
              <a:t>Intersezioni con gli assi cartesian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per l’intersezione con l’asse   x   , si risolve il sistema formato dalle due equazioni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cioè si risolve l’equazione   f(x)=0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per l’intersezione con l’asse   y   , si risolve il sistema formato da :                             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Può essere utile individuare anche le eventuali simmetrie rispetto all’asse   y   o all’origine  e  le eventuali periodicità.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3. </a:t>
            </a:r>
            <a:r>
              <a:rPr b="0" lang="it-IT" sz="1600" spc="-1" strike="noStrike" u="sng">
                <a:solidFill>
                  <a:srgbClr val="40458c"/>
                </a:solidFill>
                <a:uFillTx/>
                <a:latin typeface="Times New Roman"/>
              </a:rPr>
              <a:t>Studio del segno della funzion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La funzione è positiva quando il suo grafico si  trova, rispetto agli assi cartesiani, dalla parte del semiasse positivo delle   y ; l’intervallo di positività si determina risolvendo la disequazione :                       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086600" y="457200"/>
                <a:ext cx="9525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286000" y="1066680"/>
                <a:ext cx="53085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t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ct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838080" y="64771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imes New Roman"/>
                <a:hlinkClick r:id="rId1" action="ppaction://hlinksldjump"/>
              </a:rPr>
              <a:t>Indietro:inizio del 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391520" y="2971800"/>
                <a:ext cx="124452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867280" y="3733920"/>
                <a:ext cx="123192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7543800" y="6019920"/>
                <a:ext cx="73656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6553080" y="640080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imes New Roman"/>
                <a:hlinkClick r:id="rId2" action="ppaction://hlinksldjump"/>
              </a:rPr>
              <a:t>Avanti: continua il 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8763120" y="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4572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4</a:t>
            </a:r>
            <a:r>
              <a:rPr b="0" lang="it-IT" sz="1600" spc="-1" strike="noStrike" u="sng">
                <a:solidFill>
                  <a:srgbClr val="40458c"/>
                </a:solidFill>
                <a:uFillTx/>
                <a:latin typeface="Times New Roman"/>
              </a:rPr>
              <a:t>.Calcolo di limit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Si calcolano i limiti  negli estremi del C.E. per  vedere l’andamento della funzione; si trovano gli eventuali   punti di discontinuità e si stabilisce la specie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it-IT" sz="1600" spc="-1" strike="noStrike" u="sng">
                <a:solidFill>
                  <a:srgbClr val="40458c"/>
                </a:solidFill>
                <a:uFillTx/>
                <a:latin typeface="Times New Roman"/>
              </a:rPr>
              <a:t>. Ricerca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1600" spc="-1" strike="noStrike" u="sng">
                <a:solidFill>
                  <a:srgbClr val="40458c"/>
                </a:solidFill>
                <a:uFillTx/>
                <a:latin typeface="Times New Roman"/>
              </a:rPr>
              <a:t> degli asintot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Gli asintoti possono essere di tre tipi: verticali, orizzontali  e obliqui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a) Asintoti verticali: una retta del tipo   x=a   è un asintoto verticale se è soddisfatta la condizion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b) Asintoti orizzontali: una retta di equazione   y=k   è un asintoto orizzontale 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c) Asintoti obliqui: la retta di equazione y=mx+q risulta un asintoto obliquo, per il grafico della funzione,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se,dopo avere verificato che è soddisfatta  la condizione                                  , risultano finiti i valori dei 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due limiti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Si noti che trattando lo studio di funzioni univoche la presenza di un asintoto orizzontale esclude la   presenza di quello verticale e vicevers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658332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imes New Roman"/>
                <a:hlinkClick r:id="rId1" action="ppaction://hlinksldjump"/>
              </a:rPr>
              <a:t>Indietro:procedimento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33520" y="2895480"/>
                <a:ext cx="193032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±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010280" y="3352680"/>
                <a:ext cx="18036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±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029200" y="4038480"/>
                <a:ext cx="156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±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447920" y="4267080"/>
                <a:ext cx="5740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∞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∞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∞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990720" y="658332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imes New Roman"/>
                <a:hlinkClick r:id="rId2" action="ppaction://hlinksldjump"/>
              </a:rPr>
              <a:t>Inizio 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imes New Roman"/>
                <a:hlinkClick r:id="rId3" action="ppaction://hlinksldjump"/>
              </a:rPr>
              <a:t>Avanti:continua 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763120" y="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65833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imes New Roman"/>
                <a:hlinkClick r:id="rId1" action="ppaction://hlinksldjump"/>
              </a:rPr>
              <a:t>Inizio del 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65833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imes New Roman"/>
                <a:hlinkClick r:id="rId2" action="ppaction://hlinksldjump"/>
              </a:rPr>
              <a:t>Indietro: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0492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6.</a:t>
            </a:r>
            <a:r>
              <a:rPr b="0" lang="it-IT" sz="1600" spc="-1" strike="noStrike" u="sng">
                <a:solidFill>
                  <a:srgbClr val="40458c"/>
                </a:solidFill>
                <a:uFillTx/>
                <a:latin typeface="Times New Roman"/>
              </a:rPr>
              <a:t> Studio del segno della derivata prim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La funzione è crescente  negli intervalli che sono soluzione della disequazione                       mentre è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decrescente per                    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Un punto di ascissa            è un massimo relativo,          , se sono soddisfatte le condizioni 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Il punto           è un minimo relativo se: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7. </a:t>
            </a:r>
            <a:r>
              <a:rPr b="0" lang="it-IT" sz="1600" spc="-1" strike="noStrike" u="sng">
                <a:solidFill>
                  <a:srgbClr val="40458c"/>
                </a:solidFill>
                <a:uFillTx/>
                <a:latin typeface="Times New Roman"/>
              </a:rPr>
              <a:t>Studio del segno della derivata second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La funzione ha la concavità rivolta verso l’alto negli intervalli che costituiscono la soluzione della disequazione                                  mentre la concavità è rivolta verso il basso quand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In un punto          di massimo relativo risulta pertanto                    mentre in un minimo relativo si h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Un punto si dice di flesso,  F  , quando risulta :                             ;in un punto di flesso la retta tangente alla curva-grafico della funzione, attraversa la curva stess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Quando la tengente inflessionale è parallela all’asse  x  ,deve essere:                                                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832440" y="679320"/>
                <a:ext cx="7876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33400" y="1060560"/>
                <a:ext cx="7747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981080" y="1447920"/>
                <a:ext cx="2415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495680" y="1447920"/>
                <a:ext cx="2923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22120" y="1752480"/>
                <a:ext cx="44197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er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;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er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066680" y="2209680"/>
                <a:ext cx="2415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657600" y="2133720"/>
                <a:ext cx="40766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;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371600" y="3505320"/>
                <a:ext cx="8002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162920" y="3505320"/>
                <a:ext cx="7999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143000" y="3886200"/>
                <a:ext cx="2919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419720" y="3886200"/>
                <a:ext cx="9014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255160" y="3886200"/>
                <a:ext cx="888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343400" y="4267080"/>
                <a:ext cx="8888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867280" y="4800600"/>
                <a:ext cx="17780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670572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imes New Roman"/>
                <a:hlinkClick r:id="rId3" action="ppaction://hlinksldjump"/>
              </a:rPr>
              <a:t>Avanti:continua 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763120" y="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6583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imes New Roman"/>
                <a:hlinkClick r:id="rId1" action="ppaction://hlinksldjump"/>
              </a:rPr>
              <a:t>Inizio 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1460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imes New Roman"/>
                <a:hlinkClick r:id="rId2" action="ppaction://hlinksldjump"/>
              </a:rPr>
              <a:t>Indietro. 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57200"/>
            <a:ext cx="914400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8. </a:t>
            </a:r>
            <a:r>
              <a:rPr b="0" lang="it-IT" sz="1600" spc="-1" strike="noStrike" u="sng">
                <a:solidFill>
                  <a:srgbClr val="40458c"/>
                </a:solidFill>
                <a:uFillTx/>
                <a:latin typeface="Times New Roman"/>
              </a:rPr>
              <a:t>Esame di situazioni particolar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a) Punti in cui  non esiste la derivata prima: flessi verticali, cuspidi, punti angolosi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b) Simmetrie rispetto a punti o rette particolari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Studiamo ora un </a:t>
            </a:r>
            <a:r>
              <a:rPr b="0" lang="it-IT" sz="1600" spc="-1" strike="noStrike" u="sng">
                <a:solidFill>
                  <a:srgbClr val="6f89f7"/>
                </a:solidFill>
                <a:uFillTx/>
                <a:latin typeface="Times New Roman"/>
                <a:hlinkClick r:id="rId3" action="ppaction://hlinksldjump"/>
              </a:rPr>
              <a:t>esempio di  funzione razionale fratta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0066"/>
                </a:solidFill>
                <a:latin typeface="Tahoma"/>
              </a:rPr>
              <a:t>Funzioni razionali fratt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121932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295280"/>
            <a:ext cx="838188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no funzioni razionali fratte quelle del tipo:                    in cui la x compare al denominator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no caratterizzate dal fatto che generalmente presentano degli asintoti verticali del tipo            per i  valori della x in cui si annulla il denominatore. Cioè per gli x tali che risult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             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,tali valori sono esclusi dal C.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Esempio 1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553080" y="1219320"/>
                <a:ext cx="952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419720" y="3200400"/>
                <a:ext cx="9144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457200" y="4114800"/>
                <a:ext cx="8888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133720" y="5029200"/>
                <a:ext cx="11682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609480" y="6400800"/>
            <a:ext cx="2971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Torna a :procedimento studio funzion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660066"/>
                </a:solidFill>
                <a:uFillTx/>
                <a:latin typeface="Tahoma"/>
              </a:rPr>
              <a:t>Esempio 1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4572000"/>
            <a:ext cx="853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Campo di esistenz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.E. :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1752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Funzione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1143000"/>
            <a:ext cx="5486400" cy="33526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6858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Grafic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9480" y="2438280"/>
                <a:ext cx="11685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495680" y="3270240"/>
                <a:ext cx="152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2819520" y="1066680"/>
            <a:ext cx="5790960" cy="3446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295280" y="5486400"/>
                <a:ext cx="6732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4267080" y="6324480"/>
            <a:ext cx="35053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181480" y="5105520"/>
            <a:ext cx="0" cy="17524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715000" y="624780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6400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58672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cd882"/>
                </a:solidFill>
                <a:latin typeface="Tahoma"/>
              </a:rPr>
              <a:t>(Clic per visualizzare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6583320"/>
            <a:ext cx="1676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Torna a 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62320" y="6583320"/>
            <a:ext cx="1752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3" action="ppaction://hlinksldjump"/>
              </a:rPr>
              <a:t>Torna a </a:t>
            </a: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funz</a:t>
            </a: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5" action="ppaction://hlinksldjump"/>
              </a:rPr>
              <a:t>.</a:t>
            </a: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6" action="ppaction://hlinksldjump"/>
              </a:rPr>
              <a:t>raz</a:t>
            </a: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7" action="ppaction://hlinksldjump"/>
              </a:rPr>
              <a:t>.frat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91520" y="6477120"/>
            <a:ext cx="1752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8" action="ppaction://hlinksldjump"/>
              </a:rPr>
              <a:t>Avanti:pag.seguen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486400" y="3276720"/>
            <a:ext cx="2438280" cy="1904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304920"/>
            <a:ext cx="2361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Intersezione asse 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144792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Intersezioni asse x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3657600"/>
            <a:ext cx="5791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Segno della funzion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                                 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80880" y="914400"/>
                <a:ext cx="2248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80880" y="2057400"/>
                <a:ext cx="50799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;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,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2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57200" y="4572000"/>
                <a:ext cx="3809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4724280" y="5181480"/>
            <a:ext cx="381024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705720" y="3504960"/>
            <a:ext cx="0" cy="33526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924680" y="3505320"/>
            <a:ext cx="0" cy="2743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86400" y="3581280"/>
            <a:ext cx="0" cy="2743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5181480"/>
            <a:ext cx="609480" cy="1676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24680" y="5181480"/>
            <a:ext cx="457200" cy="1676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541008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cd882"/>
                </a:solidFill>
                <a:latin typeface="Tahoma"/>
              </a:rPr>
              <a:t>(Clic per visualizzare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324480" y="5638680"/>
            <a:ext cx="83844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6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Grafic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153280" y="3886200"/>
            <a:ext cx="83844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6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Grafic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495680" y="3809880"/>
            <a:ext cx="83844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6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Grafic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534520" y="65833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Avant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6583320"/>
            <a:ext cx="1218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5" action="ppaction://hlinksldjump"/>
              </a:rPr>
              <a:t>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52480" y="6583320"/>
            <a:ext cx="1219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6" action="ppaction://hlinksldjump"/>
              </a:rPr>
              <a:t>Funz</a:t>
            </a: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7" action="ppaction://hlinksldjump"/>
              </a:rPr>
              <a:t>.</a:t>
            </a: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8" action="ppaction://hlinksldjump"/>
              </a:rPr>
              <a:t>raz</a:t>
            </a: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9" action="ppaction://hlinksldjump"/>
              </a:rPr>
              <a:t>.frat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8120" y="6583320"/>
            <a:ext cx="1904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10" action="ppaction://hlinksldjump"/>
              </a:rPr>
              <a:t>Indietro:pag.preceden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502160" y="3295800"/>
                <a:ext cx="13968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05" name="" descr=""/>
          <p:cNvPicPr/>
          <p:nvPr/>
        </p:nvPicPr>
        <p:blipFill>
          <a:blip r:embed="rId11"/>
          <a:stretch/>
        </p:blipFill>
        <p:spPr>
          <a:xfrm>
            <a:off x="3733920" y="380880"/>
            <a:ext cx="4857480" cy="15289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486400" y="1676520"/>
            <a:ext cx="76320" cy="75960"/>
          </a:xfrm>
          <a:prstGeom prst="ellipse">
            <a:avLst/>
          </a:prstGeom>
          <a:solidFill>
            <a:srgbClr val="eb094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05720" y="838080"/>
            <a:ext cx="75960" cy="76320"/>
          </a:xfrm>
          <a:prstGeom prst="ellipse">
            <a:avLst/>
          </a:prstGeom>
          <a:solidFill>
            <a:srgbClr val="eb094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4343400" y="838080"/>
            <a:ext cx="76320" cy="76320"/>
          </a:xfrm>
          <a:prstGeom prst="ellipse">
            <a:avLst/>
          </a:prstGeom>
          <a:solidFill>
            <a:srgbClr val="eb094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04920" y="304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Calcolo limiti in estremi C.E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42670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Asintoti verticali: x=+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4952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Asintoti orizzontali: y=+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920" y="57913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Asintoti obliqui:non ce ne son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495680" y="3270240"/>
                <a:ext cx="152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88880" y="971640"/>
                <a:ext cx="22226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[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4495680" y="3270240"/>
                <a:ext cx="152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8880" y="1886040"/>
                <a:ext cx="22226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[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95360" y="2800440"/>
                <a:ext cx="23112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[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95360" y="3638520"/>
                <a:ext cx="23112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[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609480" y="6583320"/>
            <a:ext cx="1219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52480" y="6583320"/>
            <a:ext cx="137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Funz</a:t>
            </a: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3" action="ppaction://hlinksldjump"/>
              </a:rPr>
              <a:t>.</a:t>
            </a: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raz</a:t>
            </a: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5" action="ppaction://hlinksldjump"/>
              </a:rPr>
              <a:t>.frat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658332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6" action="ppaction://hlinksldjump"/>
              </a:rPr>
              <a:t>Indietr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05920" y="658332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7" action="ppaction://hlinksldjump"/>
              </a:rPr>
              <a:t>Avant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8"/>
          <a:stretch/>
        </p:blipFill>
        <p:spPr>
          <a:xfrm>
            <a:off x="3124080" y="2362320"/>
            <a:ext cx="5695920" cy="30985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5029200" y="1219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ahoma"/>
              </a:rPr>
              <a:t>(fare clic per visualizzare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3124080"/>
            <a:ext cx="5105520" cy="0"/>
          </a:xfrm>
          <a:prstGeom prst="line">
            <a:avLst/>
          </a:prstGeom>
          <a:ln w="9360">
            <a:solidFill>
              <a:srgbClr val="dd0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705720" y="2438280"/>
            <a:ext cx="0" cy="2819520"/>
          </a:xfrm>
          <a:prstGeom prst="line">
            <a:avLst/>
          </a:prstGeom>
          <a:ln w="9360">
            <a:solidFill>
              <a:srgbClr val="dd0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10280" y="48006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X=+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57600" y="2743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Y=+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8T08:21:01Z</dcterms:created>
  <dc:creator>laboratorio multimediale</dc:creator>
  <dc:description/>
  <dc:language>en-US</dc:language>
  <cp:lastModifiedBy>Claudio Cinti</cp:lastModifiedBy>
  <dcterms:modified xsi:type="dcterms:W3CDTF">2002-12-23T15:36:18Z</dcterms:modified>
  <cp:revision>20</cp:revision>
  <dc:subject/>
  <dc:title>Esempio 1</dc:title>
</cp:coreProperties>
</file>